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03E-E458-4F5D-927A-40741CE0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E4A-B107-499F-879D-89030FD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48E-5D2D-4BD5-AABE-E3AC2BD9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AB8-C19F-46BF-A5AC-5A09439F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57F-47DE-44E5-87B4-FD8C3969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4BC-9D05-4D26-BCE7-8A5CCE19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F95-C3A0-4E0D-A924-68D6F3CE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D87-B602-41B0-AEBC-9BC5CCF8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B7F-E009-4E26-B153-6EAB7F15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8BA-E1F8-4493-8669-9224551A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031-2033-4423-8020-FDDB2544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7D7-E5F0-4F07-A53D-2FA530FA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886C-14B4-419C-A677-0C1A81583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153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480960"/>
            <a:ext cx="777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68360" y="1163520"/>
            <a:ext cx="46800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00360" y="1197000"/>
            <a:ext cx="3951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48243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60483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62472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817560"/>
            <a:ext cx="6696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95640" y="692280"/>
            <a:ext cx="447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48240" cy="4548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0000" y="68256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4:43:05Z</dcterms:created>
  <dc:creator>du</dc:creator>
  <dc:description/>
  <dc:language>en-US</dc:language>
  <cp:lastModifiedBy>du</cp:lastModifiedBy>
  <dcterms:modified xsi:type="dcterms:W3CDTF">2009-11-16T04:43:06Z</dcterms:modified>
  <cp:revision>1</cp:revision>
  <dc:subject/>
  <dc:title>Slide 1</dc:title>
</cp:coreProperties>
</file>